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22320"/>
            <a:ext cx="1015848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10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eat Plains Advertisement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38" name="Picture 4" descr="Capture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474840"/>
            <a:ext cx="1015848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5-09-12T19:45:37Z</dcterms:modified>
  <cp:revision>2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